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7A937-B7FB-48B8-BE99-86B06B5F6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8FDFE-7CA0-4D8F-9FF3-B7302C8E5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DCAAE-0903-44D5-BB21-52BA52977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693DF-A9C9-424C-BD62-5E76EEC77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DD407-7E22-4C16-AB3B-B8DA9649A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E4EDD-74F0-45C5-A7E5-9A474161E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EB100-9D11-4C69-961F-E6469F149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1FC4E-3D93-468B-88F5-F543A9910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B5A22-A687-41AA-A867-6A64FA596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EEC20-5AAA-4C64-AE0F-937637D63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AA2DC-D214-43EF-BE96-BEA4A8A21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9CBE2-5AD6-4E71-8059-714523C5F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3EC9E-BF41-4922-B5FE-893BAE13F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32A03-C303-4CC6-BD13-3C6B7D0C4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B1BE4-76D5-4A22-AF60-65C04099D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AA73D-B902-4173-B436-B9B229348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A96CC-9262-49E5-A3D9-B300C93AC6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B16E4-4664-42CC-86FA-9E78E27CD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25331-9780-4E6C-86E8-D895C9E60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CDAD9-0709-463A-A6CD-E2C9C77D9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879FF-D167-472C-A97C-AD1CF02F3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A024-5B47-41DE-A2FE-E2F8C04FA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12718-D36D-4377-BE70-400F1E557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6633-CA9A-4DDE-A55C-9690FD5B1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BCF2-2868-40DB-8304-E482B5E351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23B9-1EC6-4F2E-887E-0A95A779FF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836640"/>
            <a:ext cx="7772400" cy="19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Skills and Techniques</a:t>
            </a:r>
            <a:br>
              <a:rPr sz="4400"/>
            </a:br>
            <a:br>
              <a:rPr sz="4400"/>
            </a:b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Lesson 5</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Monday 21</a:t>
            </a:r>
            <a:r>
              <a:rPr b="0" lang="en-GB" sz="4000" spc="-1" strike="noStrike" baseline="30000">
                <a:solidFill>
                  <a:srgbClr val="ffffff"/>
                </a:solidFill>
                <a:latin typeface="Comic Sans MS"/>
              </a:rPr>
              <a:t>st</a:t>
            </a:r>
            <a:r>
              <a:rPr b="0" lang="en-GB" sz="4000" spc="-1" strike="noStrike">
                <a:solidFill>
                  <a:srgbClr val="ffffff"/>
                </a:solidFill>
                <a:latin typeface="Comic Sans MS"/>
              </a:rPr>
              <a:t> Septembe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Skills and Techniques</a:t>
            </a:r>
            <a:endParaRPr b="0" lang="en-US" sz="4400" spc="-1" strike="noStrike">
              <a:solidFill>
                <a:srgbClr val="ffffff"/>
              </a:solidFill>
              <a:latin typeface="Arial"/>
            </a:endParaRPr>
          </a:p>
        </p:txBody>
      </p:sp>
      <p:pic>
        <p:nvPicPr>
          <p:cNvPr id="165"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nalysis of movement analysis resul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ovement analysis schedule showed that I always start from base and move to where the shuttle was to be played from. This gave me the best chance possible to successfully play the shot as I was in the correct position on cour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I did not always turn side-on to the net and so could not always transfer my weight from my back to my front foot. This affected my performance as I could not hit the shuttle with very much power. It meant that the shuttle often went to the front of the court and so my opponent could return with attacking shots and dominate the rally, winning the majority of poin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Arial"/>
              </a:rPr>
              <a:t>Question 5</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ructure of answer</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ening sentence (reword the question and introduce answer)</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give definition)</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o</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aracteristics – what is good about them / automatic players</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enefits of using a model performer</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nerally completed well by the major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Question 6</a:t>
            </a:r>
            <a:endParaRPr b="0" lang="en-US" sz="2400" spc="-1" strike="noStrike">
              <a:solidFill>
                <a:srgbClr val="ffffff"/>
              </a:solidFill>
              <a:latin typeface="Arial"/>
            </a:endParaRPr>
          </a:p>
          <a:p>
            <a:pPr marL="343080" indent="-343080">
              <a:lnSpc>
                <a:spcPct val="90000"/>
              </a:lnSpc>
              <a:spcBef>
                <a:spcPts val="601"/>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ructure of answer</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pening sentence</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are the stages?</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does each mean for a player of that level?</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ractices can be used?</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level are you at?</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w that there is an increase in pressure gradually throughout</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y are the practices you have stated useful for that stage of lear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Arial"/>
              </a:rPr>
              <a:t>Question 7</a:t>
            </a: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ructure of answer</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have model performer helped you design a relevant training programme?</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have the stages of learning helped you design a relevant training program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odel performer:</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performances gave me a target to achieve</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allowed me to identify areas for improvement</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 was able to look at the fine detail of the skill to ensure I knew what was involved</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 she motivated me to improve</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 she helped to create a training programme that would allow me to improve my skill by using their expertis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ges of learning:</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 was able to identify my stage of learning (state what it is) and create a programme to suit my needs</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nowing my stage of learning helped to select appropriate practices that would suit my ability (state what practices you will use in your programme)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nowing my stage of learning helped me decide how much pressure I should be working under – give an example, I am at the cognitive stage of learning therefore I have little pressure appl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0:59:34Z</dcterms:created>
  <dc:creator>FlemingC1</dc:creator>
  <dc:description/>
  <dc:language>en-US</dc:language>
  <cp:lastModifiedBy>FlemingC1</cp:lastModifiedBy>
  <dcterms:modified xsi:type="dcterms:W3CDTF">2009-09-21T11:11:57Z</dcterms:modified>
  <cp:revision>2</cp:revision>
  <dc:subject/>
  <dc:title>Skills and Techniques  N.A.B part 2 analysis</dc:title>
</cp:coreProperties>
</file>